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946C6-C857-447D-A5BB-70A221B21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257CB-5A76-441D-90B2-F5E7AD00E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B127-2F26-4305-BB14-24CFD641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8920" y="308988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A61C-2900-4ABB-911A-FDADA5C8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104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76C5-9D6E-4EFB-AD38-7AA92C6C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952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048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892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952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048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740D-72E0-4748-8729-6954E58D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097C-0724-4926-A0BF-B1B26984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8920" y="1411200"/>
            <a:ext cx="7810200" cy="32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DBB1-8C3B-4810-A5B8-0E285C6D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781020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9EF7-D427-4B1D-8D18-AC8F21BE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E98D-2103-4FCC-A856-FF40C840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0892-8FE6-4FEF-98BA-9C943BFD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8920" y="553680"/>
            <a:ext cx="78102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9A42-3A94-46F4-9BDC-7AD465A8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69BE-55CD-4EB4-8018-6CC908BC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8920" y="1411200"/>
            <a:ext cx="7810200" cy="32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B040-6976-40C0-A98E-AA47C41B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2104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A017-7620-4F18-8AE3-107EC8C5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A7BC-CA5D-48D4-A8D6-70E0FCA2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8920" y="308988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8B85-6437-484F-A4DE-B79CDC39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2104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AB3A-CE85-4519-84F7-088491D8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5952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048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892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5952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048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5972-1ABD-4B71-AFA9-A0690277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781020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A957-3681-4BDE-937D-B535DA8F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EAD-0A07-44B9-9002-31610121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8EF-EA27-4469-9DF3-1709996D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8920" y="553680"/>
            <a:ext cx="78102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D3F8-8700-4706-91BB-2CA9A9AE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050F-901A-423D-BD71-357563CE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104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BF6-B62B-483A-984A-A440D53C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6C9-0F38-4AA3-8A4E-D5785C03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start zone slide the gospel.png"/>
          <p:cNvPicPr/>
          <p:nvPr/>
        </p:nvPicPr>
        <p:blipFill>
          <a:blip r:embed="rId2"/>
          <a:stretch/>
        </p:blipFill>
        <p:spPr>
          <a:xfrm>
            <a:off x="-44280" y="-27000"/>
            <a:ext cx="9232560" cy="5197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F502B-2517-4378-AD6D-C964601097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B691A-6455-4D90-A781-53DCEBFF6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8920" y="1411200"/>
            <a:ext cx="781020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72040" indent="-219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79840" indent="-17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31920" indent="-17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43D54-E095-4122-970B-21ED414585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8F5FE-F269-43B9-8C37-84E918D3C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" descr="start zone slide.png"/>
          <p:cNvPicPr/>
          <p:nvPr/>
        </p:nvPicPr>
        <p:blipFill>
          <a:blip r:embed="rId2"/>
          <a:stretch/>
        </p:blipFill>
        <p:spPr>
          <a:xfrm>
            <a:off x="-44280" y="-27000"/>
            <a:ext cx="9232560" cy="519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1"/>
          <p:cNvSpPr/>
          <p:nvPr/>
        </p:nvSpPr>
        <p:spPr>
          <a:xfrm>
            <a:off x="3124080" y="4543560"/>
            <a:ext cx="28958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7 Awana® Clubs Internat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718920" y="738000"/>
            <a:ext cx="78102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IZABL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2360" y="826920"/>
            <a:ext cx="7969320" cy="34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Lesson 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od created, man sinned, Jesus sa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12360" y="826920"/>
            <a:ext cx="7969320" cy="34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ain Lesson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have sin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d shows gr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73120" y="866520"/>
            <a:ext cx="7439040" cy="34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ain Lesson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d sent Jes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18920" y="866520"/>
            <a:ext cx="7810200" cy="34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ain Lesson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sus is the w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72760" y="1058760"/>
            <a:ext cx="8002440" cy="33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mor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Ephesians 2:8-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For by grace you have been saved through faith. And this is not your own doing; it is the gift of Go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Not a result of works, so that no one may boas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9040" y="736560"/>
            <a:ext cx="777240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Application Ques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has sin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re anything you can do on you own to save yourself from si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must you do to be saved from the punishment for your si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ce you trust Jesus Christ as your Savior, where will you spend eternit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9040" y="742680"/>
            <a:ext cx="8007120" cy="38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Summing It U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 humans, including each one of us, have sinned, and we all deserve the punishment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 death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Gra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eans “giving someone something good that he or she doesn’t deserve.” God has shown us a lot of grace by loving us and giving us kindness and gifts that we don’t deserv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9040" y="748800"/>
            <a:ext cx="7772400" cy="387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Summing It U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od showed His grace by giving the gift of His perfect Son, Jesus, so we could be saved from the punishment for sin, even though we didn’t deserve i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we trust that Jesus died for us, we will be saved from the punishment for our sin and have the gift of life forever with Jesus Christ in heaven someda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7T17:26:03Z</dcterms:created>
  <dc:creator>Awana Employee</dc:creator>
  <dc:description/>
  <dc:language>en-US</dc:language>
  <cp:lastModifiedBy>Alicia K.</cp:lastModifiedBy>
  <cp:lastPrinted>2017-05-30T15:21:11Z</cp:lastPrinted>
  <dcterms:modified xsi:type="dcterms:W3CDTF">2017-06-14T15:09:08Z</dcterms:modified>
  <cp:revision>71</cp:revision>
  <dc:subject/>
  <dc:title>PowerPoint Presentation</dc:title>
</cp:coreProperties>
</file>