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E5804-7F44-4351-B580-F6B3E27A4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718920" y="141120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4A55F-6805-4568-AC66-3B53BFD58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5C316-F6FA-4731-A628-5A166BDB1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7189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3595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0048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7189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3595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0048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78429-1B94-44A2-8920-01E1A45B2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4BA75-EA05-47F3-AFAA-9D7411851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718920" y="1411200"/>
            <a:ext cx="7810200" cy="32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8F50C-D38E-4479-ABCB-241185A38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718920" y="1411200"/>
            <a:ext cx="781020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90CB2-FF59-48AD-B56D-C7FE90736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0FE79-58FD-4377-AC05-D2BDA7E59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4A65E-9B72-463D-B6D1-2C52B2EA0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18920" y="553680"/>
            <a:ext cx="7810200" cy="39747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0AE4F-805B-40F9-B975-B55E36020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5C9CE-91E1-43CF-B0FD-C3CC3A459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718920" y="1411200"/>
            <a:ext cx="7810200" cy="32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1EDF7-1F45-4400-8DC0-A17256FB9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7134B-47EE-42F2-BF4C-355F3F6EE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D54F7-518E-4F04-8B29-1ECCD429B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718920" y="141120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2A02E-DB3D-4229-9801-A988CBD07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96D62-F5E0-41CE-9CA4-42762F310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7189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3595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0048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7189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3595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0048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E1ACF-FD18-4950-BF74-1F074BBBB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718920" y="1411200"/>
            <a:ext cx="781020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B539E-E729-4424-8AF5-B14EF58EA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BF7D6-21CB-4C14-B88F-534A64425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5FD03-8A22-4EFA-9404-A698E1791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18920" y="553680"/>
            <a:ext cx="7810200" cy="39747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9CC1A-5EA6-4980-8BC5-63F1B5E7C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98E8B-2B3D-44E9-9BA4-6BFAA64E4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A0AD-5A00-44CF-A080-B4FF2F214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09BB9-D448-471A-9B60-69871E317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start zone slide the bible.png"/>
          <p:cNvPicPr/>
          <p:nvPr/>
        </p:nvPicPr>
        <p:blipFill>
          <a:blip r:embed="rId2"/>
          <a:stretch/>
        </p:blipFill>
        <p:spPr>
          <a:xfrm>
            <a:off x="-44280" y="-27000"/>
            <a:ext cx="9232560" cy="519732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AEE06-A569-4B4D-BD3C-BE7C33204FDD}"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DE8E4-88F2-4320-BCCA-F377BDF572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718920" y="1411200"/>
            <a:ext cx="7810200" cy="321336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2040" indent="-219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7984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3192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8400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8400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8400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8AD16-F69E-48B0-8153-A78EF88B1B25}"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45"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46"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FDF5D-6602-4A45-9ABF-29287CDF79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1" descr="start zone slide.png"/>
          <p:cNvPicPr/>
          <p:nvPr/>
        </p:nvPicPr>
        <p:blipFill>
          <a:blip r:embed="rId2"/>
          <a:stretch/>
        </p:blipFill>
        <p:spPr>
          <a:xfrm>
            <a:off x="-44280" y="-27000"/>
            <a:ext cx="9232560" cy="519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2017 Awana® Clubs Internation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77800" y="738000"/>
            <a:ext cx="7951680" cy="3886200"/>
          </a:xfrm>
          <a:prstGeom prst="rect">
            <a:avLst/>
          </a:prstGeom>
          <a:noFill/>
          <a:ln w="0">
            <a:noFill/>
          </a:ln>
        </p:spPr>
        <p:txBody>
          <a:bodyPr anchor="ctr">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STOMIZABLE SLIDE</a:t>
            </a:r>
            <a:endParaRPr b="0" lang="en-US" sz="3200" spc="-1" strike="noStrike">
              <a:solidFill>
                <a:srgbClr val="000000"/>
              </a:solidFill>
              <a:latin typeface="Calibri"/>
            </a:endParaRPr>
          </a:p>
        </p:txBody>
      </p:sp>
      <p:sp>
        <p:nvSpPr>
          <p:cNvPr id="110"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111" name="TextBox 3"/>
          <p:cNvSpPr/>
          <p:nvPr/>
        </p:nvSpPr>
        <p:spPr>
          <a:xfrm>
            <a:off x="3062160" y="190440"/>
            <a:ext cx="297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tart Zone: The B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86" name=""/>
          <p:cNvSpPr txBox="1"/>
          <p:nvPr/>
        </p:nvSpPr>
        <p:spPr>
          <a:xfrm>
            <a:off x="612360" y="826920"/>
            <a:ext cx="7969320" cy="3462480"/>
          </a:xfrm>
          <a:prstGeom prst="rect">
            <a:avLst/>
          </a:prstGeom>
          <a:noFill/>
          <a:ln w="0">
            <a:noFill/>
          </a:ln>
        </p:spPr>
        <p:txBody>
          <a:bodyPr anchor="ctr">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Lesson Summary</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The Bible is special, and you can learn how to read it.</a:t>
            </a:r>
            <a:endParaRPr b="0" lang="en-US" sz="3200" spc="-1" strike="noStrike">
              <a:solidFill>
                <a:srgbClr val="000000"/>
              </a:solidFill>
              <a:latin typeface="Calibri"/>
            </a:endParaRPr>
          </a:p>
        </p:txBody>
      </p:sp>
      <p:sp>
        <p:nvSpPr>
          <p:cNvPr id="87" name="TextBox 3"/>
          <p:cNvSpPr/>
          <p:nvPr/>
        </p:nvSpPr>
        <p:spPr>
          <a:xfrm>
            <a:off x="3062160" y="190440"/>
            <a:ext cx="297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tart Zone: The B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12360" y="826920"/>
            <a:ext cx="7969320" cy="3462480"/>
          </a:xfrm>
          <a:prstGeom prst="rect">
            <a:avLst/>
          </a:prstGeom>
          <a:noFill/>
          <a:ln w="0">
            <a:noFill/>
          </a:ln>
        </p:spPr>
        <p:txBody>
          <a:bodyPr anchor="ctr">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Main Lesson Teaching</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ble is a special book. </a:t>
            </a:r>
            <a:endParaRPr b="0" lang="en-US" sz="3200" spc="-1" strike="noStrike">
              <a:solidFill>
                <a:srgbClr val="000000"/>
              </a:solidFill>
              <a:latin typeface="Calibri"/>
            </a:endParaRPr>
          </a:p>
        </p:txBody>
      </p:sp>
      <p:sp>
        <p:nvSpPr>
          <p:cNvPr id="89"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90" name="TextBox 3"/>
          <p:cNvSpPr/>
          <p:nvPr/>
        </p:nvSpPr>
        <p:spPr>
          <a:xfrm>
            <a:off x="3062160" y="190440"/>
            <a:ext cx="297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tart Zone: The B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572760" y="866520"/>
            <a:ext cx="8008920" cy="3422520"/>
          </a:xfrm>
          <a:prstGeom prst="rect">
            <a:avLst/>
          </a:prstGeom>
          <a:noFill/>
          <a:ln w="0">
            <a:noFill/>
          </a:ln>
        </p:spPr>
        <p:txBody>
          <a:bodyPr anchor="ctr">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Main Lesson Teaching</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d tells us things through the Bible.</a:t>
            </a:r>
            <a:endParaRPr b="0" lang="en-US" sz="3200" spc="-1" strike="noStrike">
              <a:solidFill>
                <a:srgbClr val="000000"/>
              </a:solidFill>
              <a:latin typeface="Calibri"/>
            </a:endParaRPr>
          </a:p>
        </p:txBody>
      </p:sp>
      <p:sp>
        <p:nvSpPr>
          <p:cNvPr id="92"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93" name="TextBox 3"/>
          <p:cNvSpPr/>
          <p:nvPr/>
        </p:nvSpPr>
        <p:spPr>
          <a:xfrm>
            <a:off x="3062160" y="190440"/>
            <a:ext cx="297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tart Zone: The B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95" name=""/>
          <p:cNvSpPr txBox="1"/>
          <p:nvPr/>
        </p:nvSpPr>
        <p:spPr>
          <a:xfrm>
            <a:off x="569880" y="866520"/>
            <a:ext cx="7959600" cy="3422520"/>
          </a:xfrm>
          <a:prstGeom prst="rect">
            <a:avLst/>
          </a:prstGeom>
          <a:noFill/>
          <a:ln w="0">
            <a:noFill/>
          </a:ln>
        </p:spPr>
        <p:txBody>
          <a:bodyPr anchor="ctr">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Main Lesson Teaching</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ble is important.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ble is a gift. </a:t>
            </a:r>
            <a:endParaRPr b="0" lang="en-US" sz="3200" spc="-1" strike="noStrike">
              <a:solidFill>
                <a:srgbClr val="000000"/>
              </a:solidFill>
              <a:latin typeface="Calibri"/>
            </a:endParaRPr>
          </a:p>
        </p:txBody>
      </p:sp>
      <p:sp>
        <p:nvSpPr>
          <p:cNvPr id="96" name="TextBox 3"/>
          <p:cNvSpPr/>
          <p:nvPr/>
        </p:nvSpPr>
        <p:spPr>
          <a:xfrm>
            <a:off x="3062160" y="190440"/>
            <a:ext cx="297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tart Zone: The B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572760" y="1058760"/>
            <a:ext cx="8002440" cy="3394080"/>
          </a:xfrm>
          <a:prstGeom prst="rect">
            <a:avLst/>
          </a:prstGeom>
          <a:noFill/>
          <a:ln w="0">
            <a:noFill/>
          </a:ln>
        </p:spPr>
        <p:txBody>
          <a:bodyPr anchor="ctr">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Memoriz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Romans 10:17</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o faith comes from hearing, and hearing through the word of Christ.</a:t>
            </a:r>
            <a:endParaRPr b="0" lang="en-US" sz="3200" spc="-1" strike="noStrike">
              <a:solidFill>
                <a:srgbClr val="000000"/>
              </a:solidFill>
              <a:latin typeface="Calibri"/>
            </a:endParaRPr>
          </a:p>
        </p:txBody>
      </p:sp>
      <p:sp>
        <p:nvSpPr>
          <p:cNvPr id="98"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99" name="TextBox 3"/>
          <p:cNvSpPr/>
          <p:nvPr/>
        </p:nvSpPr>
        <p:spPr>
          <a:xfrm>
            <a:off x="3062160" y="190440"/>
            <a:ext cx="297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tart Zone: The B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77800" y="736560"/>
            <a:ext cx="8004240" cy="37670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pplication Question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makes the Bible special?</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is it so important to read the Bible as much as we can?</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one thing you can do this week to help you read the Bible more? </a:t>
            </a:r>
            <a:endParaRPr b="0" lang="en-US" sz="3200" spc="-1" strike="noStrike">
              <a:solidFill>
                <a:srgbClr val="000000"/>
              </a:solidFill>
              <a:latin typeface="Calibri"/>
            </a:endParaRPr>
          </a:p>
        </p:txBody>
      </p:sp>
      <p:sp>
        <p:nvSpPr>
          <p:cNvPr id="101"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102" name="TextBox 3"/>
          <p:cNvSpPr/>
          <p:nvPr/>
        </p:nvSpPr>
        <p:spPr>
          <a:xfrm>
            <a:off x="3062160" y="190440"/>
            <a:ext cx="297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tart Zone: The B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77800" y="742680"/>
            <a:ext cx="8004240" cy="3862440"/>
          </a:xfrm>
          <a:prstGeom prst="rect">
            <a:avLst/>
          </a:prstGeom>
          <a:noFill/>
          <a:ln w="0">
            <a:noFill/>
          </a:ln>
        </p:spPr>
        <p:txBody>
          <a:bodyPr anchor="ctr">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Summing It Up</a:t>
            </a:r>
            <a:endParaRPr b="0" lang="en-US" sz="32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Bible is a special book. The Bible is the only book that is breathed out, or inspired by God, which means that the Bible came from God, even though He used men to write it.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the Bible, God tells us who He is, who we are, and what Christ has done for us. The main message of the Bible is the good news about our Savior, Jesus Christ, who saves us from our sin! </a:t>
            </a:r>
            <a:endParaRPr b="0" lang="en-US" sz="2700" spc="-1" strike="noStrike">
              <a:solidFill>
                <a:srgbClr val="000000"/>
              </a:solidFill>
              <a:latin typeface="Calibri"/>
            </a:endParaRPr>
          </a:p>
        </p:txBody>
      </p:sp>
      <p:sp>
        <p:nvSpPr>
          <p:cNvPr id="10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105" name="TextBox 3"/>
          <p:cNvSpPr/>
          <p:nvPr/>
        </p:nvSpPr>
        <p:spPr>
          <a:xfrm>
            <a:off x="3062160" y="190440"/>
            <a:ext cx="297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tart Zone: The B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69880" y="748800"/>
            <a:ext cx="8012160" cy="3876840"/>
          </a:xfrm>
          <a:prstGeom prst="rect">
            <a:avLst/>
          </a:prstGeom>
          <a:noFill/>
          <a:ln w="0">
            <a:noFill/>
          </a:ln>
        </p:spPr>
        <p:txBody>
          <a:bodyPr anchor="ctr">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Summing It Up</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d’s words in the Bible are just as important as if He said them out loud to our face. We need to listen to them and remember them!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ble is one of God’s gifts to us, and it helps us in many ways. </a:t>
            </a:r>
            <a:endParaRPr b="0" lang="en-US" sz="3200" spc="-1" strike="noStrike">
              <a:solidFill>
                <a:srgbClr val="000000"/>
              </a:solidFill>
              <a:latin typeface="Calibri"/>
            </a:endParaRPr>
          </a:p>
        </p:txBody>
      </p:sp>
      <p:sp>
        <p:nvSpPr>
          <p:cNvPr id="107"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ESV</a:t>
            </a:r>
            <a:endParaRPr b="0" lang="en-US" sz="1200" spc="-1" strike="noStrike">
              <a:solidFill>
                <a:srgbClr val="000000"/>
              </a:solidFill>
              <a:latin typeface="Calibri"/>
            </a:endParaRPr>
          </a:p>
        </p:txBody>
      </p:sp>
      <p:sp>
        <p:nvSpPr>
          <p:cNvPr id="108" name="TextBox 3"/>
          <p:cNvSpPr/>
          <p:nvPr/>
        </p:nvSpPr>
        <p:spPr>
          <a:xfrm>
            <a:off x="3062160" y="190440"/>
            <a:ext cx="297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tart Zone: The Bi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7T17:26:03Z</dcterms:created>
  <dc:creator>Awana Employee</dc:creator>
  <dc:description/>
  <dc:language>en-US</dc:language>
  <cp:lastModifiedBy>Alicia K.</cp:lastModifiedBy>
  <cp:lastPrinted>2017-05-10T19:01:44Z</cp:lastPrinted>
  <dcterms:modified xsi:type="dcterms:W3CDTF">2017-06-14T15:10:09Z</dcterms:modified>
  <cp:revision>74</cp:revision>
  <dc:subject/>
  <dc:title>PowerPoint Presentation</dc:title>
</cp:coreProperties>
</file>