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90407-3143-4661-9E9F-2FBAF797B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18920" y="553680"/>
            <a:ext cx="78102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18920" y="1411200"/>
            <a:ext cx="7810200" cy="153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18920" y="3089880"/>
            <a:ext cx="7810200" cy="153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BCA1B-5AEF-41F2-972B-DB2C0BF67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18920" y="553680"/>
            <a:ext cx="78102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18920" y="1411200"/>
            <a:ext cx="3811320" cy="153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21040" y="1411200"/>
            <a:ext cx="3811320" cy="153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18920" y="3089880"/>
            <a:ext cx="3811320" cy="153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21040" y="3089880"/>
            <a:ext cx="3811320" cy="153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880C7-54DB-452F-A00C-71B80595F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18920" y="553680"/>
            <a:ext cx="78102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18920" y="1411200"/>
            <a:ext cx="2514600" cy="153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59520" y="1411200"/>
            <a:ext cx="2514600" cy="153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0480" y="1411200"/>
            <a:ext cx="2514600" cy="153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18920" y="3089880"/>
            <a:ext cx="2514600" cy="153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59520" y="3089880"/>
            <a:ext cx="2514600" cy="153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0480" y="3089880"/>
            <a:ext cx="2514600" cy="153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9BFA2-EE0F-4E4C-B6BA-C6AA0185B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EFD16-CFC6-4617-B76D-2D363F80D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18920" y="553680"/>
            <a:ext cx="78102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718920" y="1411200"/>
            <a:ext cx="7810200" cy="32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1CD96-2791-4B40-AA9E-08211FDC4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18920" y="553680"/>
            <a:ext cx="78102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18920" y="1411200"/>
            <a:ext cx="7810200" cy="32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2409C-9C5C-450D-8588-8785988BC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18920" y="553680"/>
            <a:ext cx="78102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18920" y="1411200"/>
            <a:ext cx="3811320" cy="32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21040" y="1411200"/>
            <a:ext cx="3811320" cy="32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C6DA8-5379-4820-9645-DE1733897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18920" y="553680"/>
            <a:ext cx="78102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98CDB-FAD2-41BD-BFF6-46876B057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718920" y="553680"/>
            <a:ext cx="781020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05B76-047E-4FFA-ACE6-F27698C23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18920" y="553680"/>
            <a:ext cx="78102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18920" y="1411200"/>
            <a:ext cx="3811320" cy="153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21040" y="1411200"/>
            <a:ext cx="3811320" cy="32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718920" y="3089880"/>
            <a:ext cx="3811320" cy="153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FB8C6-33A9-4572-97B0-69A8882EC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18920" y="553680"/>
            <a:ext cx="78102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18920" y="1411200"/>
            <a:ext cx="7810200" cy="32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CEDB6-04ED-4E44-AD59-772F23056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18920" y="553680"/>
            <a:ext cx="78102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18920" y="1411200"/>
            <a:ext cx="3811320" cy="32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21040" y="1411200"/>
            <a:ext cx="3811320" cy="153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21040" y="3089880"/>
            <a:ext cx="3811320" cy="153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CF698-61F2-4EB3-BF1D-AD8C38A2C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18920" y="553680"/>
            <a:ext cx="78102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18920" y="1411200"/>
            <a:ext cx="3811320" cy="153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21040" y="1411200"/>
            <a:ext cx="3811320" cy="153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718920" y="3089880"/>
            <a:ext cx="7810200" cy="153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EF5EA-0C7A-4EBD-ADFD-3EC6978C7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18920" y="553680"/>
            <a:ext cx="78102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18920" y="1411200"/>
            <a:ext cx="7810200" cy="153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718920" y="3089880"/>
            <a:ext cx="7810200" cy="153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57A9C-5973-4EDC-BCA1-DAB740960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18920" y="553680"/>
            <a:ext cx="78102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18920" y="1411200"/>
            <a:ext cx="3811320" cy="153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21040" y="1411200"/>
            <a:ext cx="3811320" cy="153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718920" y="3089880"/>
            <a:ext cx="3811320" cy="153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21040" y="3089880"/>
            <a:ext cx="3811320" cy="153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B9D12-C71B-4C64-917A-B2AEAD7B2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18920" y="553680"/>
            <a:ext cx="78102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18920" y="1411200"/>
            <a:ext cx="2514600" cy="153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59520" y="1411200"/>
            <a:ext cx="2514600" cy="153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00480" y="1411200"/>
            <a:ext cx="2514600" cy="153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718920" y="3089880"/>
            <a:ext cx="2514600" cy="153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59520" y="3089880"/>
            <a:ext cx="2514600" cy="153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00480" y="3089880"/>
            <a:ext cx="2514600" cy="153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277F9-B569-4370-8738-FEE1F0449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18920" y="553680"/>
            <a:ext cx="78102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18920" y="1411200"/>
            <a:ext cx="7810200" cy="32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D4A8E-1270-407E-B7C8-49A144033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18920" y="553680"/>
            <a:ext cx="78102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18920" y="1411200"/>
            <a:ext cx="3811320" cy="32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21040" y="1411200"/>
            <a:ext cx="3811320" cy="32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921EC-0B31-43C2-996A-AC15EF6A6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18920" y="553680"/>
            <a:ext cx="78102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43E5C-8FF9-4AB7-A9C6-F554F7027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18920" y="553680"/>
            <a:ext cx="781020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92A90-7FA4-48A9-B8DD-F4C143006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18920" y="553680"/>
            <a:ext cx="78102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18920" y="1411200"/>
            <a:ext cx="3811320" cy="153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21040" y="1411200"/>
            <a:ext cx="3811320" cy="32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18920" y="3089880"/>
            <a:ext cx="3811320" cy="153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744D8-50B7-4D9B-9F87-7366480C9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18920" y="553680"/>
            <a:ext cx="78102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18920" y="1411200"/>
            <a:ext cx="3811320" cy="32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21040" y="1411200"/>
            <a:ext cx="3811320" cy="153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21040" y="3089880"/>
            <a:ext cx="3811320" cy="153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9F4AE-BBE5-423F-A1CC-3736087F3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18920" y="553680"/>
            <a:ext cx="78102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18920" y="1411200"/>
            <a:ext cx="3811320" cy="153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21040" y="1411200"/>
            <a:ext cx="3811320" cy="153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18920" y="3089880"/>
            <a:ext cx="7810200" cy="153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AFBC1-C22B-4454-8068-0DB73335C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8318D05-4361-4D0E-9139-BC361E9B481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S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DF987C-8A1E-4DBE-9FBA-68C3989999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" name="Picture 6" descr="start zone slide.png"/>
          <p:cNvPicPr/>
          <p:nvPr/>
        </p:nvPicPr>
        <p:blipFill>
          <a:blip r:embed="rId2"/>
          <a:stretch/>
        </p:blipFill>
        <p:spPr>
          <a:xfrm>
            <a:off x="-30240" y="0"/>
            <a:ext cx="9250560" cy="5203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6" descr="start zone slide2 copy.png"/>
          <p:cNvPicPr/>
          <p:nvPr/>
        </p:nvPicPr>
        <p:blipFill>
          <a:blip r:embed="rId2"/>
          <a:stretch/>
        </p:blipFill>
        <p:spPr>
          <a:xfrm>
            <a:off x="-47520" y="0"/>
            <a:ext cx="9239040" cy="519588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18920" y="553680"/>
            <a:ext cx="78102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18920" y="1411200"/>
            <a:ext cx="7810200" cy="32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-263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72040" indent="-219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879840" indent="-175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231920" indent="-1756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584000" indent="-1756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584000" indent="-1756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584000" indent="-1756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A055C7-37AD-42BF-9B5D-D3EA9A63B35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S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F55F42F-7398-43EA-8672-31EEA3C4AF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Box 3"/>
          <p:cNvSpPr/>
          <p:nvPr/>
        </p:nvSpPr>
        <p:spPr>
          <a:xfrm>
            <a:off x="2979720" y="3905280"/>
            <a:ext cx="332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TION 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Footer Placeholder 1"/>
          <p:cNvSpPr/>
          <p:nvPr/>
        </p:nvSpPr>
        <p:spPr>
          <a:xfrm>
            <a:off x="3124080" y="4767120"/>
            <a:ext cx="2895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S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Box 3"/>
          <p:cNvSpPr/>
          <p:nvPr/>
        </p:nvSpPr>
        <p:spPr>
          <a:xfrm>
            <a:off x="3062160" y="190440"/>
            <a:ext cx="297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AIN LESS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042920" y="1658880"/>
            <a:ext cx="7346880" cy="27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. God showed His grace by giving the gift of His perfect Son, Jesus, so we could be saved from the punishment for sin, even though we didn’t deserve i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Footer Placeholder 1"/>
          <p:cNvSpPr/>
          <p:nvPr/>
        </p:nvSpPr>
        <p:spPr>
          <a:xfrm>
            <a:off x="3124080" y="4767120"/>
            <a:ext cx="2895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S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1209240" y="1363680"/>
            <a:ext cx="7201080" cy="33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JOHN 3:1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For God so loved the world, that He gave His only Son, that whoever believes in Him should not perish but have eternal lif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TextBox 4"/>
          <p:cNvSpPr/>
          <p:nvPr/>
        </p:nvSpPr>
        <p:spPr>
          <a:xfrm>
            <a:off x="3062160" y="190440"/>
            <a:ext cx="297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AIN LESS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Footer Placeholder 1"/>
          <p:cNvSpPr/>
          <p:nvPr/>
        </p:nvSpPr>
        <p:spPr>
          <a:xfrm>
            <a:off x="3124080" y="4767120"/>
            <a:ext cx="2895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S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975960" y="1701360"/>
            <a:ext cx="7458120" cy="27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. If we trust that Jesus died for us, we will be saved from the punishment for our sin and have the gift of life forever with Jesus Christ in heaven someda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Box 4"/>
          <p:cNvSpPr/>
          <p:nvPr/>
        </p:nvSpPr>
        <p:spPr>
          <a:xfrm>
            <a:off x="3062160" y="190440"/>
            <a:ext cx="297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AIN LESS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Footer Placeholder 1"/>
          <p:cNvSpPr/>
          <p:nvPr/>
        </p:nvSpPr>
        <p:spPr>
          <a:xfrm>
            <a:off x="3124080" y="4767120"/>
            <a:ext cx="2895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S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Box 3"/>
          <p:cNvSpPr/>
          <p:nvPr/>
        </p:nvSpPr>
        <p:spPr>
          <a:xfrm>
            <a:off x="3062160" y="190440"/>
            <a:ext cx="297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AIN LESS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179000" y="1546200"/>
            <a:ext cx="6945480" cy="270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ROMANS 6:2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For the wages of sin is death, but the free gift of God is eternal life in Christ Jesus our Lor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Footer Placeholder 1"/>
          <p:cNvSpPr/>
          <p:nvPr/>
        </p:nvSpPr>
        <p:spPr>
          <a:xfrm>
            <a:off x="3124080" y="4767120"/>
            <a:ext cx="2895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S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Box 3"/>
          <p:cNvSpPr/>
          <p:nvPr/>
        </p:nvSpPr>
        <p:spPr>
          <a:xfrm>
            <a:off x="3062160" y="190440"/>
            <a:ext cx="297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IVE OUT YOUR FAIT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76080" y="723600"/>
            <a:ext cx="7810200" cy="43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 has sinne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s there anything you can do on your own to save yourself from si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must you do to be saved from the punishment for your si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ce you trust Jesus Christ as your Savior, where will you spend eternit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Footer Placeholder 1"/>
          <p:cNvSpPr/>
          <p:nvPr/>
        </p:nvSpPr>
        <p:spPr>
          <a:xfrm>
            <a:off x="3124080" y="4767120"/>
            <a:ext cx="2895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S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412560" y="669600"/>
            <a:ext cx="8381880" cy="428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humans, including each one of us, have sinned and we all deserve the punishment of death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race means giving someone something good that he or she doesn’t deserve. God has shown us a lot of grace by loving us and giving us kindness and gifts that we don’t deserv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3062160" y="190440"/>
            <a:ext cx="297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UM IT U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Footer Placeholder 1"/>
          <p:cNvSpPr/>
          <p:nvPr/>
        </p:nvSpPr>
        <p:spPr>
          <a:xfrm>
            <a:off x="3124080" y="4767120"/>
            <a:ext cx="2895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S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642600" y="614160"/>
            <a:ext cx="7777080" cy="42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od showed His grace by giving the gift of His perfect Son, Jesus, so we could be saved from the punishment for sin, even though we didn’t deserve i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we trust that Jesus died for us, we will be saved from the punishment for our sin and have the gift of life forever with Jesus Christ in heaven someda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TextBox 4"/>
          <p:cNvSpPr/>
          <p:nvPr/>
        </p:nvSpPr>
        <p:spPr>
          <a:xfrm>
            <a:off x="3062160" y="190440"/>
            <a:ext cx="297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UM IT U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Footer Placeholder 1"/>
          <p:cNvSpPr/>
          <p:nvPr/>
        </p:nvSpPr>
        <p:spPr>
          <a:xfrm>
            <a:off x="3124080" y="4767120"/>
            <a:ext cx="2895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S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18920" y="553680"/>
            <a:ext cx="78102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718920" y="1411200"/>
            <a:ext cx="7810200" cy="32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USTOMIZABLE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TextBox 4"/>
          <p:cNvSpPr/>
          <p:nvPr/>
        </p:nvSpPr>
        <p:spPr>
          <a:xfrm>
            <a:off x="3062160" y="190440"/>
            <a:ext cx="297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USTOMIZABLE TIT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Footer Placeholder 3"/>
          <p:cNvSpPr/>
          <p:nvPr/>
        </p:nvSpPr>
        <p:spPr>
          <a:xfrm>
            <a:off x="3124080" y="4767120"/>
            <a:ext cx="2895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S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612360" y="826920"/>
            <a:ext cx="7969320" cy="366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Because of His grace, God gave us the gift of salvation through His Son, Jesus Christ. We are sinners; we can’t do anything to deserve this gift; to receive it we simply have to trust that Jesus took our punishment for sin when He died for us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TextBox 3"/>
          <p:cNvSpPr/>
          <p:nvPr/>
        </p:nvSpPr>
        <p:spPr>
          <a:xfrm>
            <a:off x="3062160" y="190440"/>
            <a:ext cx="297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AIN IDE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Footer Placeholder 1"/>
          <p:cNvSpPr/>
          <p:nvPr/>
        </p:nvSpPr>
        <p:spPr>
          <a:xfrm>
            <a:off x="3124080" y="4767120"/>
            <a:ext cx="2895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S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1352160" y="1058760"/>
            <a:ext cx="69246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PHESIANS 2:8-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For by grace you have been saved through faith. And this is not your own doing; it is the gift of Go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962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Not a result of works, so that no one may boas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TextBox 4"/>
          <p:cNvSpPr/>
          <p:nvPr/>
        </p:nvSpPr>
        <p:spPr>
          <a:xfrm>
            <a:off x="3062160" y="190440"/>
            <a:ext cx="297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EMORY VERS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Footer Placeholder 1"/>
          <p:cNvSpPr/>
          <p:nvPr/>
        </p:nvSpPr>
        <p:spPr>
          <a:xfrm>
            <a:off x="3124080" y="4767120"/>
            <a:ext cx="2895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S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1147680" y="1530360"/>
            <a:ext cx="6864480" cy="222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hare what you wrote in your </a:t>
            </a:r>
            <a:r>
              <a:rPr b="0" i="1" lang="en-US" sz="4400" spc="-1" strike="noStrike">
                <a:solidFill>
                  <a:srgbClr val="000000"/>
                </a:solidFill>
                <a:latin typeface="Calibri"/>
              </a:rPr>
              <a:t>Start Zone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bout what God created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extBox 3"/>
          <p:cNvSpPr/>
          <p:nvPr/>
        </p:nvSpPr>
        <p:spPr>
          <a:xfrm>
            <a:off x="3062160" y="190440"/>
            <a:ext cx="297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TRODUC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Footer Placeholder 1"/>
          <p:cNvSpPr/>
          <p:nvPr/>
        </p:nvSpPr>
        <p:spPr>
          <a:xfrm>
            <a:off x="3124080" y="4767120"/>
            <a:ext cx="2895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S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33240" y="996480"/>
            <a:ext cx="77486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s there anything wrong with what God create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did Adam and Eve bring into the world when they chose to make a bad choic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si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TextBox 4"/>
          <p:cNvSpPr/>
          <p:nvPr/>
        </p:nvSpPr>
        <p:spPr>
          <a:xfrm>
            <a:off x="3062160" y="190440"/>
            <a:ext cx="297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TRODUC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Footer Placeholder 1"/>
          <p:cNvSpPr/>
          <p:nvPr/>
        </p:nvSpPr>
        <p:spPr>
          <a:xfrm>
            <a:off x="3124080" y="4767120"/>
            <a:ext cx="2895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S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1091880" y="1890720"/>
            <a:ext cx="7451640" cy="180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 All humans, including each one of us, have sinned and we all deserve the punishment of death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Box 3"/>
          <p:cNvSpPr/>
          <p:nvPr/>
        </p:nvSpPr>
        <p:spPr>
          <a:xfrm>
            <a:off x="3062160" y="190440"/>
            <a:ext cx="297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AIN LESS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Footer Placeholder 1"/>
          <p:cNvSpPr/>
          <p:nvPr/>
        </p:nvSpPr>
        <p:spPr>
          <a:xfrm>
            <a:off x="3124080" y="4767120"/>
            <a:ext cx="2895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S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1090080" y="777960"/>
            <a:ext cx="7008840" cy="412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ROMANS 3:2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For all have sinned and fall short of the glory of Go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ROMANS 6:2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For the wages of sin is death, but the free gift of God is eternal life in Christ Jesus our Lor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3"/>
          <p:cNvSpPr/>
          <p:nvPr/>
        </p:nvSpPr>
        <p:spPr>
          <a:xfrm>
            <a:off x="3062160" y="190440"/>
            <a:ext cx="297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AIN LESS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Footer Placeholder 1"/>
          <p:cNvSpPr/>
          <p:nvPr/>
        </p:nvSpPr>
        <p:spPr>
          <a:xfrm>
            <a:off x="3124080" y="4767120"/>
            <a:ext cx="2895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S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776160" y="1432080"/>
            <a:ext cx="7810560" cy="331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 Grace means giving someone something good that he or she doesn’t deserve. God has shown us a lot of grace by loving us and giving us kindness and gifts that we don’t deserv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TextBox 3"/>
          <p:cNvSpPr/>
          <p:nvPr/>
        </p:nvSpPr>
        <p:spPr>
          <a:xfrm>
            <a:off x="3062160" y="190440"/>
            <a:ext cx="297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AIN LESS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Footer Placeholder 1"/>
          <p:cNvSpPr/>
          <p:nvPr/>
        </p:nvSpPr>
        <p:spPr>
          <a:xfrm>
            <a:off x="3124080" y="4767120"/>
            <a:ext cx="2895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S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1110960" y="1333440"/>
            <a:ext cx="7170840" cy="342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PHESIANS 2:8-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For by grace you have been saved through faith. And this is not your own doing; it is the gift of God, not a result of works, so that no one may boas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TextBox 4"/>
          <p:cNvSpPr/>
          <p:nvPr/>
        </p:nvSpPr>
        <p:spPr>
          <a:xfrm>
            <a:off x="3062160" y="190440"/>
            <a:ext cx="297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AIN LESS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Footer Placeholder 1"/>
          <p:cNvSpPr/>
          <p:nvPr/>
        </p:nvSpPr>
        <p:spPr>
          <a:xfrm>
            <a:off x="3124080" y="4767120"/>
            <a:ext cx="2895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S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5-27T17:26:03Z</dcterms:created>
  <dc:creator>Awana Employee</dc:creator>
  <dc:description/>
  <dc:language>en-US</dc:language>
  <cp:lastModifiedBy>Awana Employee</cp:lastModifiedBy>
  <cp:lastPrinted>2016-06-13T15:20:36Z</cp:lastPrinted>
  <dcterms:modified xsi:type="dcterms:W3CDTF">2016-10-18T19:12:29Z</dcterms:modified>
  <cp:revision>56</cp:revision>
  <dc:subject/>
  <dc:title>PowerPoint Presentation</dc:title>
</cp:coreProperties>
</file>